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EAF-E63F-41EB-8BCF-FBC01D18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4D4-5A6E-4356-A2C4-6112017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451-6C59-407D-8626-E5D6F62D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B6B-A3A0-43A0-8AA3-9CB03C6E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860-1597-4BFA-82A6-2DACA0E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DE5-E34E-4A0E-A604-47B6F83D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3B6-BE5F-49AE-B558-D1EF1C7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69A-5089-4231-9716-A996B007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66A-F33A-4E76-9B0A-75555C5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08F-2BCE-4101-B8ED-4AF28FB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646-43DC-4D69-B704-02C9F08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C38-9F56-4F93-A00F-D82AEB9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57E-1CB9-4699-A5F8-203BF5E7F6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08:25Z</dcterms:created>
  <dc:creator>INVES-S6600A</dc:creator>
  <dc:description/>
  <dc:language>en-US</dc:language>
  <cp:lastModifiedBy>INVES-S6600A</cp:lastModifiedBy>
  <dcterms:modified xsi:type="dcterms:W3CDTF">2010-11-23T13:07:03Z</dcterms:modified>
  <cp:revision>1</cp:revision>
  <dc:subject/>
  <dc:title>Diapositiva 1</dc:title>
</cp:coreProperties>
</file>